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22464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922464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3E0ED4-0330-4B54-9410-1FAE2D9E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AFA737-16BD-41A4-8220-2E2660E4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參考</a:t>
            </a:r>
            <a:r>
              <a:rPr b="0" lang="zh-TW" sz="1200" spc="-1" strike="noStrike" u="sng">
                <a:solidFill>
                  <a:srgbClr val="000066"/>
                </a:solidFill>
                <a:uFillTx/>
                <a:latin typeface="Times New Roman"/>
              </a:rPr>
              <a:t>牛的印跡</a:t>
            </a: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及</a:t>
            </a:r>
            <a:r>
              <a:rPr b="0" lang="zh-TW" sz="1200" spc="-1" strike="noStrike" u="sng">
                <a:solidFill>
                  <a:srgbClr val="000066"/>
                </a:solidFill>
                <a:uFillTx/>
                <a:latin typeface="Times New Roman"/>
              </a:rPr>
              <a:t>五停心 四念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兩本書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9AFA06-F6C8-48C7-AD84-66C7BC16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牛的印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51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，與不淨觀不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172C76-C97A-4504-BCB0-D3945745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B2A245-27EC-4A02-8EC1-BC5F0192F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96B09C-1303-4E63-ACA3-F46365E9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54F743-B268-4BB2-AAB0-DEEE2E607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AD2646-8EA6-435A-8531-54F6C900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聖嚴法師   五停心四念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958AF2C-B82A-4357-A54E-72FF56C6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MN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指內側前額葉皮質、後扣帶皮質、契前葉、頂葉頂下葉所構成的腦內迴路 久賀谷亮 腦科學的正念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uroscience of Mindfulness(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最高休息法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)P76-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B068D71-100A-4935-B8CA-8FC5E01A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F27CDAD-FF52-4265-B9C9-333C2255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D3AAB8-9BFE-47B9-B813-033893AA8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B1CB0D-CF0F-403E-A166-7CA212B4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快樂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公分大腸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28F92A-E8B1-40F7-94C1-E73A7D69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1A4AB1E-8DF8-407A-B487-B2B753BBE65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136EF9-53B2-469F-8E29-F0001D40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六祖壇經；衍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前念著境即煩惱，後念離境即普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無名、行、識、名色、六入、觸、受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A38F99-0B19-442B-8D9B-57812021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7F70C4-39F8-4E78-8FB7-0E9D6C73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P150P1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606D22-C9D8-4D11-BAEB-8DC8ADEF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整理自聖嚴法師  禪與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8-49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移情作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A8611C-422D-478E-874C-9621D4A7F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二三：一行法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一三：快樂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內觀療癒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o-Spiritualilty Focusing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步驟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清查內心的存貨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感覺出首要問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你能面對它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深入其中與覺受在一起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0" lang="zh-TW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讓它自由表達 若水譯 內觀自得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4-6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5E85CA-F83E-4DF4-91EF-67A24D831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日，內閣總辭，我確定不再續任主委時，情緒以一塊又酸又重的東西出現在左胸。</a:t>
            </a:r>
            <a:r>
              <a:rPr b="0" lang="zh-TW" sz="1000" spc="-1" strike="noStrike">
                <a:solidFill>
                  <a:srgbClr val="000066"/>
                </a:solidFill>
                <a:latin typeface="Times New Roman"/>
              </a:rPr>
              <a:t>在第一時間覺知到情緒，持續和它在一起兩小時，徹底處理了潛意識內的情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知道如何處裡情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66"/>
                </a:solidFill>
                <a:latin typeface="Times New Roman"/>
              </a:rPr>
              <a:t>和它相處兩個小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沒有思辨，只是覺知它，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30-133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和它共處兩小時，它化作一股暖氣消失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徹底的清除下台的失落感。之後我決定不接任台肥或台糖董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C857D0-DD43-4D63-8F8D-A79C50E9A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參考整理達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逆境中更易尋快樂 天下雜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948CC3E-B145-4F9D-9233-304A1945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時時心有法喜，念念不離禪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FE2566-9CE2-4CA5-904A-851E37AD8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1EC1BCD-2C67-481E-B27E-F91EE351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0A8EF9-906A-4E63-AE20-9FA9926A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3C024A-E4CD-495C-940A-965A2FB44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楊定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靜坐的科學醫學與心靈之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0D68708-DAA0-40D4-8D4F-5F3383D1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22228b"/>
                </a:solidFill>
                <a:latin typeface="Arial Unicode MS"/>
                <a:ea typeface="Arial Unicode MS"/>
              </a:rPr>
              <a:t>怎麼吃飯，就怎麼過生活</a:t>
            </a:r>
            <a:r>
              <a:rPr b="0" lang="zh-TW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塞飽肚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充分利用時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享受生命</a:t>
            </a:r>
            <a:r>
              <a:rPr b="0" lang="en-US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(</a:t>
            </a:r>
            <a:r>
              <a:rPr b="0" lang="zh-TW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吃飯皇帝大</a:t>
            </a:r>
            <a:r>
              <a:rPr b="0" lang="en-US" sz="1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83F300E-C677-4476-BBB3-7205E7B9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聖嚴法師觀世音法門的修持方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66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，楞嚴經的耳根圓通法門之方便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F33139-6E57-42DD-BAC3-CBD8339CF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B0811D4-8BC7-4A66-91BF-3FDB3FD9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479BD6-47E1-42DE-A1BB-CC7E69AE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唐代嶺南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廣東新興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黃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湖北省蘄州黃梅縣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五祖弘忍傳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國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小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58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5=279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小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12=23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770DF74-35B5-4946-B407-D63A943CD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坐禪的功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投影片編號版面配置區 3"/>
          <p:cNvSpPr/>
          <p:nvPr/>
        </p:nvSpPr>
        <p:spPr>
          <a:xfrm>
            <a:off x="3884760" y="9225000"/>
            <a:ext cx="2973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A8EB51-2266-4B43-B3B3-39C4C006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63E-0AE5-4F13-99EA-D9AFFC9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1CA-EE7F-478B-AD06-092395A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748-2741-4558-99FF-3E7543F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541-7C1C-446F-A077-5465E0A9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06A-B2E8-4312-B850-23A738D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F2D-EEA6-461F-A7C0-2B9B04A5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2F2-5F33-416A-B469-A44F7C2F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593-0DDE-4D24-B099-A89BE13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6F6-1306-47AF-9FC8-7F2FA90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F18-EBD6-4231-AA07-41403CF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924-687E-4AC7-8D95-E9C754D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9D1-9D97-4EE9-AA6D-2B2AD99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天空及向日葵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42A-24E8-4FE6-8BA4-647DC98B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76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生活禪</a:t>
            </a:r>
            <a:r>
              <a:rPr b="0" lang="en-US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-</a:t>
            </a: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-</a:t>
            </a: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從四念處到空觀默照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陳武雄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祖師禪林特聘講師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2018.10.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陀基金會華藏園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世尊四答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6920" y="2266920"/>
            <a:ext cx="849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依戒為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依四念處為安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對於惡性比丘，應默擯置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經典前冠以‘如是我聞’四字令人證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DF7-89F5-4ABA-A81E-65A856DE2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C57-42B7-4B4E-B097-3E03809B1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11280" y="980640"/>
            <a:ext cx="6121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730000"/>
                </a:solidFill>
                <a:latin typeface="Arial Unicode MS"/>
                <a:ea typeface="Arial Unicode MS"/>
              </a:rPr>
              <a:t>     </a:t>
            </a: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四念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身受心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要建立在禪定的基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其最終的目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是要引發無漏智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C686-AC5A-469B-9102-2EA3D1C1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觀  身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728720"/>
            <a:ext cx="81705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所觀察的對象是如其本然呈現的身體和它的動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察他們從這一刻到下一刻的變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只需要對身體進行直接和簡單的觀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時時明察身體的動作，從粗而細，從局部而全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逐層觀照，乃至明察秋毫，隨時隨地，都能清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楚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                                </a:t>
            </a:r>
            <a:r>
              <a:rPr b="1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牛的印跡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---</a:t>
            </a:r>
            <a:r>
              <a:rPr b="1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聖嚴法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觀     身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覺察我們常把身體等同自我，也把與外境互動所產生的感受連結到自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進而察覺到身體乃是眾多煩惱與執著的本源，因為</a:t>
            </a:r>
            <a:r>
              <a:rPr b="0" lang="zh-TW" sz="32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我們本能的保護及滿足身體的各種慾望，正是把我們綁在生死輪迴的繩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F96-CF8A-4C02-B3EC-9A9566C8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CE7-A51D-4E4A-A499-D3683C67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觀    受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526680"/>
            <a:ext cx="777744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透過正念接受一切的感受，讓自己深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察樂、苦、不苦不樂的循環變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了知我們以感受為工具，將苦樂、利害等化分，形成自我與世界的二元對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苦樂僅僅是受，而非苦非樂，心即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夠明淨安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566-E64F-4DA8-90BC-C2EE27FA4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20720"/>
            <a:ext cx="76312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觀     心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8360" y="1989000"/>
            <a:ext cx="763092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覺察我們的心受外在的刺激和內在的思緒的影響而起伏不定，觀心無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當我們沒能覺察到我們的心念時，心念便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自動的產生並會主宰我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在起心動念處用功，覺察每一個念起念滅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究竟在想些什麼</a:t>
            </a:r>
            <a:r>
              <a:rPr b="0" lang="en-U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最後覺察到沒有永恆的心相可見，親證無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的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70A-BB27-4E2A-9AC1-D7D7BFC8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觀   法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切思想、觀念、分別與現象，都是法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諸法均是身相、物相產生的印象及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號，均非永恆的實相，也不能獨立自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察心念反應的情況（執着、分別、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惱）覺知法的空性，觀法無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98D-CFD7-4DAC-B114-C2608F66A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61640"/>
            <a:ext cx="611964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 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初學者四念處的實修</a:t>
            </a:r>
            <a:br>
              <a:rPr sz="3600"/>
            </a:b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--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以拜佛為例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3059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照拜的動作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---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照拜的肢體的覺觸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---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照所受的心念及反應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---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照心念反應的情況，有無執著</a:t>
            </a:r>
            <a:r>
              <a:rPr b="0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---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四念處安定身心的實作次第禪法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利用大動作的身體伸展，將在外面亂跑的心，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住在身體的動作和感覺，可以做到身心合一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身受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初步安定後，清楚放鬆身體的各部位，而逐漸進入靜心的狀態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由觀入止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體驗到的自然呼吸的頻率基礎上，開始用數息或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察呼吸的禪修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621-3265-4996-939D-AA8B7EA36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利用身體動作和鬆緊等感覺的覺知，培養訓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內觀的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進而覺知心的變化及心念的作為，再深入覺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情緒，轉化穿透情緒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心法，由觀生慧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CB1-30B2-41C8-A105-3BDD86D1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近代腦科學</a:t>
            </a:r>
            <a:r>
              <a:rPr b="0" lang="en-US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(Neuroscience)</a:t>
            </a:r>
            <a:r>
              <a:rPr b="0" lang="zh-TW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的研究</a:t>
            </a:r>
            <a:br>
              <a:rPr sz="2800"/>
            </a:b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久賀谷亮</a:t>
            </a:r>
            <a:r>
              <a:rPr b="0" lang="zh-TW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天之中人腦有一半時間花在心神不定的狀態，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DMN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就是心神不定時的自動運作迴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腦部重量佔人體體重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2%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但耗能佔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20%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其中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DMN(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預設模式網絡的部位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耗能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2-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反芻思考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rumination)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不斷反覆想著事件的始末，以致過度分析且難以休止的心理狀態，導致大腦的疲累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憂鬱症狀況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心神不定，因此即使不工作，也很累。禪修狀態下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心都比較不會疲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31C3-D001-4026-A57D-58689067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7080"/>
            <a:ext cx="7631280" cy="71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伸展放鬆禪</a:t>
            </a:r>
            <a:br>
              <a:rPr sz="4400"/>
            </a:br>
            <a:br>
              <a:rPr sz="44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手臂、肩膀的伸展放鬆</a:t>
            </a: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放鬆</a:t>
            </a: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全身放鬆</a:t>
            </a: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自然呼吸的頻率上覺察呼吸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7E30-2076-4723-9BDF-23FB60F8E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覺察心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5B0-72B2-42F0-BFF6-201F2F64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60000"/>
                </a:solidFill>
                <a:latin typeface="王漢宗中行書繁"/>
              </a:rPr>
              <a:t>為什麼我們不快樂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投影片編號版面配置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DB1-7333-4664-B71C-3B76B939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10A-80A4-4719-82F1-52C98645F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:\Users\ASUS-P5Q\AppData\Local\Microsoft\Windows\Temporary Internet Files\Content.IE5\XVBZHJY9\IMAG2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如果我們常常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心隨境轉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我們就不得安寧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投影片編號版面配置區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410-7E0E-4655-A8BA-9D333AF0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境隨心轉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則能在困境中自在的應對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88BD-431B-4036-8CFB-039F90AF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把紅燈變成綠燈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投影片編號版面配置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436-4BB1-4997-90BC-6F9640B1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1440" y="765000"/>
            <a:ext cx="84582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TW" sz="5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痛苦 </a:t>
            </a:r>
            <a:r>
              <a:rPr b="0" lang="en-US" sz="5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=</a:t>
            </a:r>
            <a:r>
              <a:rPr b="0" lang="zh-TW" sz="5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</a:t>
            </a:r>
            <a:r>
              <a:rPr b="0" lang="zh-TW" sz="5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疼痛ㄨ抗拒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317-1BC7-437B-A7A2-9787F738B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對立抗拒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是痛苦的擴大器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F5D-C99B-4A98-B114-57762DFD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685800" cy="49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8000"/>
                </a:solidFill>
                <a:latin typeface="Times New Roman"/>
              </a:rPr>
              <a:t>蒼蠅與梅花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6" name="The Fly2分鐘.mp4" descr=""/>
          <p:cNvPicPr/>
          <p:nvPr/>
        </p:nvPicPr>
        <p:blipFill>
          <a:blip r:embed="rId1"/>
          <a:stretch/>
        </p:blipFill>
        <p:spPr>
          <a:xfrm>
            <a:off x="685800" y="0"/>
            <a:ext cx="8566200" cy="6958080"/>
          </a:xfrm>
          <a:prstGeom prst="rect">
            <a:avLst/>
          </a:prstGeom>
          <a:ln w="0">
            <a:noFill/>
          </a:ln>
        </p:spPr>
      </p:pic>
      <p:sp>
        <p:nvSpPr>
          <p:cNvPr id="117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E306-5EE6-48B6-A5A5-886F277EE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累的不是身體，是大腦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是那自行啟動的雜念列車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強制性的思緒消耗大量體能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3a0000"/>
                </a:solidFill>
                <a:latin typeface="Arial Unicode MS"/>
                <a:ea typeface="Arial Unicode MS"/>
              </a:rPr>
              <a:t>產生強烈的情緒漩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076-072E-496D-BBEE-E3866C43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把蒼蠅變成梅花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A768-0699-438E-9A34-0B9DEB7D2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14560"/>
            <a:ext cx="7772400" cy="26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負面情緒主要的來源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79640" y="35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對當下環境的不適應、抗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潛在痛苦因子的迸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投影片編號版面配置區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79F7-D9A6-4437-9F20-1412398B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2755800"/>
            <a:ext cx="56880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三重埔殺人事件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潛在痛苦因子的迸發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84692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接受不是認命而是積極的</a:t>
            </a:r>
            <a:br>
              <a:rPr sz="4000"/>
            </a:br>
            <a:br>
              <a:rPr sz="4000"/>
            </a:b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釋放當下百分百心的生產力</a:t>
            </a:r>
            <a:br>
              <a:rPr sz="4000"/>
            </a:br>
            <a:br>
              <a:rPr sz="4000"/>
            </a:b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關鍵就在 </a:t>
            </a:r>
            <a:r>
              <a:rPr b="0" lang="en-US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br>
              <a:rPr sz="40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接受當下所有的條件環境</a:t>
            </a: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也接受自己的身心狀況 </a:t>
            </a: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A1E7-82F4-4C6C-B43F-E69A62293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240" y="2895120"/>
            <a:ext cx="50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8000"/>
                </a:solidFill>
                <a:latin typeface="Times New Roman"/>
              </a:rPr>
              <a:t>智慧獎莊馥華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智慧獎-20160920.mp4" descr=""/>
          <p:cNvPicPr/>
          <p:nvPr/>
        </p:nvPicPr>
        <p:blipFill>
          <a:blip r:embed="rId1"/>
          <a:stretch/>
        </p:blipFill>
        <p:spPr>
          <a:xfrm>
            <a:off x="701640" y="-20520"/>
            <a:ext cx="8460000" cy="7049880"/>
          </a:xfrm>
          <a:prstGeom prst="rect">
            <a:avLst/>
          </a:prstGeom>
          <a:ln w="0">
            <a:noFill/>
          </a:ln>
        </p:spPr>
      </p:pic>
      <p:sp>
        <p:nvSpPr>
          <p:cNvPr id="12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FA5-01F6-4B77-9091-E97D3D0D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情緒怎麼形成的</a:t>
            </a:r>
            <a:r>
              <a:rPr b="0" lang="en-US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?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前念勾起後念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念念相續，變成漩渦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投影片編號版面配置區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75D2-FC51-47F2-BE7F-405D6CC41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53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怕念起，只怕覺遲</a:t>
            </a: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念起即覺、覺之即斷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投影片編號版面配置區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123B-D12D-4F35-BDCB-9FBD174F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9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負面情緒出現時身體的反應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36680" y="334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呼吸急促、胃痛、噁心、頭痛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       </a:t>
            </a: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胸悶、心痛、頸肩僵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225-ECD5-4CC6-9C9A-16448480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8160" y="969840"/>
            <a:ext cx="8350200" cy="48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已產生情緒時，如何面對處裡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D4AD-F367-4338-B058-CDEB322C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7240" y="89676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黃金準則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先處裡情緒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要先處理引起情緒的人事物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DFC5-1C9E-446B-BF6E-7E5576F85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禪修</a:t>
            </a:r>
            <a:r>
              <a:rPr b="0" lang="en-US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---</a:t>
            </a: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練心</a:t>
            </a:r>
            <a:br>
              <a:rPr sz="4000"/>
            </a:br>
            <a:br>
              <a:rPr sz="4000"/>
            </a:b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雜亂心</a:t>
            </a:r>
            <a:r>
              <a:rPr b="0" lang="en-US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---</a:t>
            </a: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集中心</a:t>
            </a:r>
            <a:r>
              <a:rPr b="0" lang="en-US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---</a:t>
            </a: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統一心</a:t>
            </a:r>
            <a:r>
              <a:rPr b="0" lang="en-US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---</a:t>
            </a:r>
            <a:r>
              <a:rPr b="0" lang="zh-TW" sz="4000" spc="-1" strike="noStrike">
                <a:solidFill>
                  <a:srgbClr val="660033"/>
                </a:solidFill>
                <a:latin typeface="Arial Unicode MS"/>
                <a:ea typeface="Arial Unicode MS"/>
              </a:rPr>
              <a:t>無心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B05-F911-4756-A0F3-5C824059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7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當情緒的觀察者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覺察到情緒，告訴自己我有了情緒，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受自己的情緒狀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避免習慣性、制約性的反應，不要被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緒帶著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投影片編號版面配置區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495-961E-4BCA-8B7A-C7A8FD909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情緒的轉移法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6360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深呼吸，覺察出入鼻孔的氣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稱頌佛號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南無阿彌陀佛、南無觀世音菩薩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雙手合掌，清楚合掌的感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離開引起情緒的焦點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人事物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DD9A-CC6F-4B89-9AB3-CAAE56B2D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情緒的穿透轉化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000" y="2050560"/>
            <a:ext cx="7848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、要全然安住於情緒的當下，不思考、不對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接受自己的身心狀態</a:t>
            </a:r>
            <a:br>
              <a:rPr sz="2800"/>
            </a:b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二、覺察情緒引發身體的感覺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頸肩僵硬、胸悶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三、清楚地、靜靜地觀照身體的感覺， 自己是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者，不做任何的討論、處理，身體的感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會慢慢消失，情緒也就自然轉化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5FB-458F-4BC3-BF9B-62384F776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我擁抱它兩個小時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E514-344F-4E07-9601-FB62B861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如何面對別人的情緒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99640" y="1615680"/>
            <a:ext cx="720108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無論對方是怎麼樣的情緒，知道那是當下的現象，同理對方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深呼吸，或採取其他轉移焦點的方法，自己保持心情平靜，但不要刻意壓制憤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要專注在對方的情緒性語言或動作，只有頃聽對方的談話內容，但不批判，給對方舒緩的空間，讓對方的情緒逐漸減緩下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合理的回應對方所提出的實質問題</a:t>
            </a:r>
            <a:r>
              <a:rPr b="0" lang="en-US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回應情緒</a:t>
            </a:r>
            <a:r>
              <a:rPr b="0" lang="en-US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做應該做的，不要逃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要對傷害你的人保持慈悲心，在心中感謝他們，讓你有機會培養安忍的美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E57-12B6-4AD2-BD82-CEDBF0D0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43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生 活 禪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8C28-B2E0-4E20-B100-A6626913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1a0571"/>
                </a:solidFill>
                <a:latin typeface="Arial Unicode MS"/>
                <a:ea typeface="Arial Unicode MS"/>
              </a:rPr>
              <a:t>日常生活中處處不離禪悅</a:t>
            </a:r>
            <a:br>
              <a:rPr sz="3600"/>
            </a:br>
            <a:br>
              <a:rPr sz="28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茶禪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品嘗一杯茶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音樂禪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聆聽一首音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吃飯禪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吃一餐飯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走路禪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山中小徑漫步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用工作禪</a:t>
            </a: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工作和環境融而為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EC30-7B7D-432F-9935-01BD23C8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                     </a:t>
            </a: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茶 禪 一 味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＊</a:t>
            </a:r>
            <a:r>
              <a:rPr b="0" lang="zh-TW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如待上賓</a:t>
            </a:r>
            <a:r>
              <a:rPr b="0" lang="en-US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: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論奉茶賞茶，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在茶席中態度要恭敬真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＊</a:t>
            </a:r>
            <a:r>
              <a:rPr b="0" lang="zh-TW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制心一處</a:t>
            </a:r>
            <a:r>
              <a:rPr b="0" lang="en-US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泡茶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茶桌擺設、泡茶、奉茶、全然投入，心無雜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賞茶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清楚看到茶的顏色、聞到茶的味道、感覺到杯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的溫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＊</a:t>
            </a:r>
            <a:r>
              <a:rPr b="0" lang="zh-TW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默照空觀</a:t>
            </a:r>
            <a:r>
              <a:rPr b="0" lang="en-US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(</a:t>
            </a:r>
            <a:r>
              <a:rPr b="0" lang="zh-TW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善分別、無揀擇</a:t>
            </a:r>
            <a:r>
              <a:rPr b="0" lang="en-US" sz="2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賞茶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放下自己先前的經驗及好惡，不預期不執取，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有分別心、沒有好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讓茶當主人，展現如其本然的面貌，在虛靜的狀況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</a:t>
            </a: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，六根全開，自然流暢的觸及茶的色香、味、韻、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zh-TW" sz="2400" spc="-1" strike="noStrike">
                <a:solidFill>
                  <a:srgbClr val="3a0000"/>
                </a:solidFill>
                <a:latin typeface="Arial Unicode MS"/>
                <a:ea typeface="Arial Unicode MS"/>
              </a:rPr>
              <a:t>整理自果如法師著茶禪一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喝茶去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34560" y="1844640"/>
            <a:ext cx="820908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置心一處，欣賞茶葉舒展、茶色變化、聞茶香、感覺茶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的溫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專注地拿起杯子，一杯茶分三小口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第一口體會茶的味道，細細地體會口鼻舌喉及身體的各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感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第二口覺察心念的生滅，好惡、分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第三口放掉所有預期經驗、執著，閉起眼睛，靜下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來，讓茶當主人自然展現它的風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574-F975-4E5A-81AC-258CF1EE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A7BE-E517-4F97-A60E-DFB4D22B9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</a:t>
            </a: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吃飯禪頌  </a:t>
            </a:r>
            <a:br>
              <a:rPr sz="3200"/>
            </a:b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</a:t>
            </a:r>
            <a:r>
              <a:rPr b="0" lang="zh-TW" sz="2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（可用叩鐘偈的調子來唱）</a:t>
            </a: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    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95280" y="227664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放鬆我身心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挺直我腰身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聞到飯香味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看到菜青翠</a:t>
            </a:r>
            <a:br>
              <a:rPr sz="2800"/>
            </a:b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慢慢地咀嚼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細細地品嚐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食物有粗細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飯菜有芳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27640" y="269892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咀嚼我平靜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咀嚼我喜悅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品嚐大自在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品嚐人間愛</a:t>
            </a:r>
            <a:br>
              <a:rPr sz="2800"/>
            </a:b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清楚我放鬆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身心在微笑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當下是淨土</a:t>
            </a:r>
            <a:br>
              <a:rPr sz="2800"/>
            </a:br>
            <a:r>
              <a:rPr b="0" lang="zh-TW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生命本美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1320480"/>
            <a:ext cx="8002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根據科學實驗，我們靜下心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</a:t>
            </a: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腦波的活動頻率會逐漸下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在清醒而多念頭的情況下，腦波約在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4-30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赫茲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放鬆平靜時，腦波約在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9-14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赫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深度放鬆腦波在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4-8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赫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5FC9-97BE-4D61-90D7-B0BE17EA1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投影片編號版面配置區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21BB-CA29-437C-B750-8E04F1047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食物禪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1337760"/>
            <a:ext cx="8424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感恩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觀看食物的種類、顏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感恩天地、眾生、及所有成就餐桌上飯菜的因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體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.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時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2.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放鬆身心，清楚全身放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3.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置心一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嘴巴、舌頭的動作，清楚食物的味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、粗細，清楚自己的心念好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4.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思善、不思惡，靜靜地讓食物的風味展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出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音樂禪</a:t>
            </a:r>
            <a:r>
              <a:rPr b="0" lang="en-US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(</a:t>
            </a: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聞聲音法</a:t>
            </a:r>
            <a:r>
              <a:rPr b="0" lang="en-US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268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專念普聽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切聲音，不分別， 不以耳朵去追逐、尋找，只讓聲音自然進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知道自己在聽聲音，也有聲音被自己所聽，只有聲音和自己應和，</a:t>
            </a:r>
            <a:r>
              <a:rPr b="0" lang="zh-TW" sz="2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沒有其他雜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有聲音</a:t>
            </a:r>
            <a:r>
              <a:rPr b="0" lang="zh-TW" sz="2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忘了自己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融入無分別、無界限的聲音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聲音與自己</a:t>
            </a:r>
            <a:r>
              <a:rPr b="0" lang="zh-TW" sz="2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雙亡雙照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，雙亡則無內外自他，雙照則歷歷分明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   </a:t>
            </a:r>
            <a:r>
              <a:rPr b="0" lang="zh-TW" sz="2400" spc="-1" strike="noStrike">
                <a:solidFill>
                  <a:srgbClr val="3a0000"/>
                </a:solidFill>
                <a:latin typeface="Arial Unicode MS"/>
                <a:ea typeface="Arial Unicode MS"/>
              </a:rPr>
              <a:t>聖嚴法師觀世音法門的修持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a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DE9-E206-44CF-9D50-5DC3062A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投影片編號版面配置區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296-0065-420E-A513-6F8D772E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000" y="403200"/>
            <a:ext cx="784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                 </a:t>
            </a:r>
            <a:r>
              <a:rPr b="0" lang="zh-TW" sz="28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走  路  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（一）經行、慢步、快步、立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（二）安住在身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經行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詳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慢步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腳掌著地的感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快步</a:t>
            </a:r>
            <a:r>
              <a:rPr b="0" lang="en-US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: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兩隻腳移動的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從頭到腳放鬆，自然走路、自然呼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*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一有妄念，就回到清楚腳步一起一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（三）空觀默照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不專注在腳步的覺受，只清楚自己在走路，清楚身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的放鬆，進一步開放六根，耳聽、眼看、鼻聞，聲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景觀都全面的清楚，但又不特別專注在某一個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慢步經行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雙手握虛拳放在腹部，頸背腰成一直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全身放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每次跨出半腳掌，清楚腳掌抬起來、腳尖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落地、再整個腳掌著地，身體重心從後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</a:t>
            </a: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移到前腳，清楚重心在兩腳掌間的轉換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清楚腳掌抬起來放下去，清楚重心在兩腳掌間的轉換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D5C-DC7B-4D3A-98C2-2108F1835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15600" y="2276640"/>
            <a:ext cx="8132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謝謝大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6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投影片編號版面配置區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A5F-D90C-4F66-8DA9-EA8E6832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41480"/>
            <a:ext cx="7772400" cy="53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禪的修行次第</a:t>
            </a:r>
            <a:br>
              <a:rPr sz="4000"/>
            </a:br>
            <a:br>
              <a:rPr sz="4000"/>
            </a:b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從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: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制心一處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(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集中心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)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、身心一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到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: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 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空觀默照、應無所住、而生其心</a:t>
            </a:r>
            <a:br>
              <a:rPr sz="3600"/>
            </a:b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(</a:t>
            </a:r>
            <a:r>
              <a:rPr b="0" lang="zh-TW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無我、生慧</a:t>
            </a:r>
            <a:r>
              <a:rPr b="0" lang="en-US" sz="36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8CF-50FA-45E4-B786-D274F8FDB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心念集中於某一處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中斷雜念的續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CCF-65D4-4352-8258-0E2CD865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33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安定身心的方法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</a:t>
            </a:r>
            <a:r>
              <a:rPr b="0" lang="zh-TW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四念處的應用</a:t>
            </a:r>
            <a:r>
              <a:rPr b="0" lang="en-US" sz="3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174-F17B-4BA6-B66A-846465F8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60000"/>
                </a:solidFill>
                <a:latin typeface="Arial Unicode MS"/>
                <a:ea typeface="Arial Unicode MS"/>
              </a:rPr>
              <a:t>世尊涅槃前，阿難四問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在世時，我們以佛為師。</a:t>
            </a:r>
            <a:br>
              <a:rPr sz="2400"/>
            </a:b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入涅槃後，我們以誰為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在世時，我們依佛而住。</a:t>
            </a:r>
            <a:br>
              <a:rPr sz="2400"/>
            </a:b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入涅槃後，我們依誰而住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在世時，惡性比丘，佛自調伏。</a:t>
            </a:r>
            <a:br>
              <a:rPr sz="2400"/>
            </a:b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入涅槃後，我們如何調伏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佛陀住世時，佛陀的言教，大家易生信解佛陀涅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</a:t>
            </a:r>
            <a:r>
              <a:rPr b="0" lang="zh-TW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以後，經典的結集，如何才能叫人起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投影片編號版面配置區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B21-4783-4F6E-AE9A-0AB367A4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6:04:18Z</dcterms:created>
  <dc:creator>coa</dc:creator>
  <dc:description/>
  <dc:language>en-US</dc:language>
  <cp:lastModifiedBy>twpc</cp:lastModifiedBy>
  <cp:lastPrinted>2014-05-31T09:39:56Z</cp:lastPrinted>
  <dcterms:modified xsi:type="dcterms:W3CDTF">2018-09-22T06:41:26Z</dcterms:modified>
  <cp:revision>973</cp:revision>
  <dc:subject/>
  <dc:title>入會農業談判經驗傳承</dc:title>
</cp:coreProperties>
</file>